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56B-4F28-477E-A9D9-D382601B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8A1-C5B5-42DD-9609-C5402EBF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6C5-EE5F-461E-9608-90CD43DC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B4A-7D98-4AC2-ADFC-0F43D4E0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B196-7D7E-440C-997C-A53E2FBE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E1DB-75B6-4CE4-98AD-200EF6F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5435-E948-4B49-9DBF-A88066D5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176B-D0A3-44DC-BFF7-29A0E29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B230-A212-4E22-87CC-99908315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C195-6532-4ED9-9EA2-11C827D3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9F0A-EE0B-479A-AB04-B1F3722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5DC-6B72-422C-8285-B9D6831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82D2-AF0F-46C2-9F4E-F5221DEE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9285-B5AB-44E4-93FC-1E4B1A1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D495-3242-47DD-9777-3CE196EF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7159-D220-48EC-9F8A-18E9AFB9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8E64-1B71-4926-AEF7-052B92E5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409-4017-4057-AA11-DF672B2A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A0F-8A51-467F-9C5A-0B9B0C91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61A-8BC4-4391-8711-CB9DC947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6BC-96FF-4807-8ADD-170A60FC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E46-C092-4C65-8D04-59D0E330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302-2182-483A-B1C3-EC03AEB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F12-3F03-46EF-9B46-0F3ACC9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D386-8E62-4879-8D4C-DDB90FD3F6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EE07-44CB-4AE9-B58F-5072A08BF1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Me llamo __________ Clase 6 NH (602)</a:t>
            </a:r>
            <a:br>
              <a:rPr sz="3200"/>
            </a:b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La fecha es el 15 de octubre del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Proposito # 11: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Cómo llegas a la escuel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Write as many Spanish words you can think of associated with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Comic Sans MS"/>
              </a:rPr>
              <a:t>¿Qué significa…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pu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pelerí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eriales escola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en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caja </a:t>
            </a: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</a:rPr>
              <a:t>(en una tiend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om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lev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p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Bus esco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n p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tal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9144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1371600"/>
            <a:ext cx="35816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ationary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1828800"/>
            <a:ext cx="3733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chool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3623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819520"/>
            <a:ext cx="19814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2767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To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763800"/>
            <a:ext cx="31244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To w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2210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To 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6782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y f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5135400"/>
            <a:ext cx="26668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chool b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563868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A pa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61261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ateriales Escolar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mbra los materiales escolar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7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1884240"/>
            <a:ext cx="1685880" cy="154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184640" y="2133720"/>
            <a:ext cx="1301760" cy="1676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867280" y="2362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7772400" y="2133720"/>
            <a:ext cx="1360440" cy="1752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514600" y="4495680"/>
            <a:ext cx="109368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7200" y="36115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35053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4038480"/>
            <a:ext cx="1676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lígra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388620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388620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3962520"/>
            <a:ext cx="1371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hoj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p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643104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rp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609588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762120" y="4343400"/>
            <a:ext cx="1143000" cy="1117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867280" y="4724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7848720" y="4724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457200" y="5410080"/>
            <a:ext cx="1028880" cy="962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23880" y="53341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6172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4114800" y="4648320"/>
            <a:ext cx="1380960" cy="936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809880" y="5745240"/>
            <a:ext cx="19051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rtuche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5562720"/>
            <a:ext cx="1600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rr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go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91520" y="601992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rea # 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labr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. R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Historieta 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. R11 (1-6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4:21:27Z</dcterms:created>
  <dc:creator>Helen Zumaeta</dc:creator>
  <dc:description/>
  <dc:language>en-US</dc:language>
  <cp:lastModifiedBy>Helen Zumaeta</cp:lastModifiedBy>
  <dcterms:modified xsi:type="dcterms:W3CDTF">2012-10-15T13:09:39Z</dcterms:modified>
  <cp:revision>9</cp:revision>
  <dc:subject/>
  <dc:title>Me llamo __________ Clase 6 NH La fecha es el 8 de febrero del 2012</dc:title>
</cp:coreProperties>
</file>